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CCD-441B-40F5-AAEF-57302E07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12C-34F8-447A-A9C8-65DA0C93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9EC-A136-4BFE-8C64-D0741996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B62-9DF1-4FE5-AA45-E012E944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661-004B-4E03-8F11-8D4A7B01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C7A-7381-4EFA-A1A5-2CADB2E2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E14-1A52-421B-88EA-B75739C2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E2A-806F-4145-B51E-9115464F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7CC-F471-4E8C-B45C-7BC9ECA9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870-D7E3-4B2F-8455-8788DF7B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FA2-9A50-4D4A-BE38-D71AA4C0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B5A-329C-4D96-A525-7C22B185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A1F9-9001-4526-8299-F61F914D6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ontology.org/wiki/index.php/OCI:Main_Page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749" t="16796" r="14791" b="72838"/>
          <a:stretch/>
        </p:blipFill>
        <p:spPr>
          <a:xfrm>
            <a:off x="0" y="927000"/>
            <a:ext cx="9144000" cy="7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Communities and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3749" t="38979" r="15627" b="5729"/>
          <a:stretch/>
        </p:blipFill>
        <p:spPr>
          <a:xfrm>
            <a:off x="0" y="1727280"/>
            <a:ext cx="914400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8160" y="1752480"/>
            <a:ext cx="90774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86480" indent="-186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1.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1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Coordination Committee (CC)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Representatives of the communities -&gt; Monthly con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72080" y="2816280"/>
            <a:ext cx="5581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1b45"/>
                </a:solidFill>
                <a:latin typeface="Trebuchet MS"/>
              </a:rPr>
              <a:t>2. Developers WG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CC and other communities’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Weekly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nferences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29240" y="3114720"/>
            <a:ext cx="9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160" y="5346720"/>
            <a:ext cx="14000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67400" indent="-167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1b45"/>
                </a:solidFill>
                <a:latin typeface="Trebuchet MS"/>
              </a:rPr>
              <a:t>3. Advisors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66720" y="2486160"/>
            <a:ext cx="8392680" cy="4310640"/>
            <a:chOff x="666720" y="2486160"/>
            <a:chExt cx="8392680" cy="4310640"/>
          </a:xfrm>
        </p:grpSpPr>
        <p:grpSp>
          <p:nvGrpSpPr>
            <p:cNvPr id="49" name=""/>
            <p:cNvGrpSpPr/>
            <p:nvPr/>
          </p:nvGrpSpPr>
          <p:grpSpPr>
            <a:xfrm>
              <a:off x="2976480" y="2486160"/>
              <a:ext cx="6082920" cy="4310640"/>
              <a:chOff x="2976480" y="2486160"/>
              <a:chExt cx="6082920" cy="4310640"/>
            </a:xfrm>
          </p:grpSpPr>
          <p:pic>
            <p:nvPicPr>
              <p:cNvPr id="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00240" y="2486160"/>
                <a:ext cx="6049080" cy="36727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2976480" y="6152400"/>
                <a:ext cx="6082920" cy="64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  <a:ea typeface="굴림"/>
                  </a:rPr>
                  <a:t>-&gt; cBiO will oversee th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  <a:ea typeface="굴림"/>
                  </a:rPr>
                  <a:t>Open BioMedical Ontology (OBO) initi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66720" y="6019920"/>
              <a:ext cx="2222640" cy="546120"/>
              <a:chOff x="666720" y="6019920"/>
              <a:chExt cx="2222640" cy="546120"/>
            </a:xfrm>
          </p:grpSpPr>
          <p:sp>
            <p:nvSpPr>
              <p:cNvPr id="53" name=""/>
              <p:cNvSpPr/>
              <p:nvPr/>
            </p:nvSpPr>
            <p:spPr>
              <a:xfrm>
                <a:off x="666720" y="6019920"/>
                <a:ext cx="55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6720" y="6210360"/>
                <a:ext cx="63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6720" y="6566040"/>
                <a:ext cx="67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19320" y="6019920"/>
                <a:ext cx="93960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89160" y="6203880"/>
                <a:ext cx="8762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1333440" y="6280200"/>
                <a:ext cx="83196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71880" y="6280200"/>
                <a:ext cx="71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udy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criptive research – research in which the investigator attempts to describe a group of individuals based on a set of variable in order to document their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se study – description of one or more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elopmental research – description of pattern of change over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ative research – establishing normal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litative research – gathering data through interview or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aluation research – objectively assess a program or policy by describing the needs for the services or policy, often using surveys or question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loratory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hort or case-control studies – establish associations through epidemiological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ological studies – establish reliability and validity of a new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analysis – exploring new relationships in ol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torical research – reconstructing the past through an assessment of archives or other rec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iment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domized clinical trial – controlled comparison of an experimental intervention allowing the assessment of the causes of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ubject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tial clinical 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research – assessment of the success of a program or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i-experimental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-analysis – statistically combining findings from several different studies to obtain a summar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5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rui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ndomized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rolled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igible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eened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er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mature termination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lud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luded post-randomization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-randomized-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-enrolled-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-eligible-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d-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y arm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over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group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nt-to-treat population - based on rando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-protocol population - exclude those with serious protocol 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mony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s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 subset of a larger population, selected for investigation to draw conclusions or make estimates about the larger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he number of subjects in a clinical 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umber of subjects required for primary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</a:t>
            </a:r>
            <a:r>
              <a:rPr b="0" lang="en-GB" sz="30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Heterogeneity but for G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990720"/>
            <a:ext cx="881388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Diverse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mics 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andardization effort people (MGED, PSI, M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eople ‘running’ (public) repositories, primary + secondary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Software engineers, modellers, biologists, data-m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eople from the semantic web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Vendors and manufacturers (n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Different maturity s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ome needs to ‘rebuild’, e.g. MGED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ome are starting now, e.g. M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Plurality of (prospective)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riving data entry and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Indexing of experimental data, minimal information lists, x-db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Applying it to text-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Benchmarking, enrichment,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Encoding facts from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Building knowledge bases relying on RDF triple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Development Strateg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914400"/>
            <a:ext cx="88138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Collaborative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ecide on a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he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top-level ontology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to hook-up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Leverage on Basic Formal Ontology (B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Agree on an initial structure (trunk) with is_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Rely on Relation Ontology (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&gt; part_of (currently expressed in the taxonomy as cardinal_part_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&gt; participates_in (input) and derives_from (output), located_i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gree on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naming convention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and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metadata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Common working practices, for building, editing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Within community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Collect use cases: real examples and potential usage of the ontolog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Gather terms and definitions: the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bottom-up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Branch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plit the development in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branche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for focused working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BioMaterial, Data Transformation,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lan (design and protocol), Role, Protocol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lan for distributed development: SVN, import functions, me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Tools and Document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2920" y="920880"/>
            <a:ext cx="900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150120" indent="-150120">
              <a:lnSpc>
                <a:spcPct val="10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Open source, standards compliant and vers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600" indent="80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ntology Web Language (OWL) using Protégé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0600" indent="80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BI.owl files are available from the OBI SVN Reposi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240" y="2022480"/>
            <a:ext cx="9010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Top Level Clas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7080" y="1279440"/>
            <a:ext cx="8864640" cy="545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Continuan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 entity that endure/remains the same throug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Independent Continuant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tands on its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All physical entities (instrument, technology platform, document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Biological material (organism, population etc.)</a:t>
            </a: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Dependent Continuan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heres from another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Environment (depend on the set of ranges of conditions, e.g. geographic lo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Characteristics (entity that can be measured, e.g. temperature, u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- Realizabl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an entity that is realized through a process</a:t>
            </a:r>
            <a:r>
              <a:rPr b="0" lang="en-GB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(executed/r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52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Software (a set of machine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52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Design (the plan that can be realized in a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5256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Role (the part played by an entity within the context of a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Occurren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 entity that occurs/unfolds i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Temporal Regions, Spatio-Temporal Regions (single actions or Ev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80000"/>
              </a:lnSpc>
              <a:spcBef>
                <a:spcPts val="1250"/>
              </a:spcBef>
              <a:buClr>
                <a:srgbClr val="af1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Process</a:t>
            </a:r>
            <a:r>
              <a:rPr b="1" lang="en-GB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Investigation (the entire ‘experimental’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Assay (process of performing some tests and recording the resul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Main Activities and Time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440" y="941400"/>
            <a:ext cx="8991720" cy="573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Continue branches activities </a:t>
            </a:r>
            <a:r>
              <a:rPr b="0" i="1" lang="en-GB" sz="2000" spc="-1" strike="noStrike">
                <a:solidFill>
                  <a:srgbClr val="af1b45"/>
                </a:solidFill>
                <a:latin typeface="Trebuchet MS"/>
              </a:rPr>
              <a:t>(iterative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Branches editors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collect term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from the communities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</a:rPr>
              <a:t>APRIL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ort terms by relevance to one or other branch, or to other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Normalize terms, add metadata tags (e.g. definition and sou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in terms into the relevant top leve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Finalize the first draft of OBI C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view branches and m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erge with the trunk into a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core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</a:rPr>
              <a:t>JULY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- 4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ace-2-face workshop for Coordinators and 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Test the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first draft of OBI C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ut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o user communities for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testing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OCTOBER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Set up tracker tool for gathering comments and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Enrich the ont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Branches editors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collect other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terms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OCTOBER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Lay out landscape of missing communities</a:t>
            </a:r>
            <a:r>
              <a:rPr b="1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crui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new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cy and inclusivity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bioontology.org/wiki/index.php/OCI:Main_P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Google “OCI wiki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d top down/bottom up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d term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homony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 synony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ed membership into BFO/OBI bra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 terms within bra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I 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8520" y="936720"/>
            <a:ext cx="4840200" cy="46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05280" y="1770120"/>
            <a:ext cx="5095800" cy="496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320" y="1407960"/>
            <a:ext cx="350676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68480" y="1612800"/>
            <a:ext cx="33526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rcRect l="0" t="0" r="0" b="11599"/>
          <a:stretch/>
        </p:blipFill>
        <p:spPr>
          <a:xfrm>
            <a:off x="3808440" y="1855800"/>
            <a:ext cx="2549520" cy="45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4"/>
          <a:srcRect l="0" t="0" r="35895" b="0"/>
          <a:stretch/>
        </p:blipFill>
        <p:spPr>
          <a:xfrm>
            <a:off x="5402160" y="2162160"/>
            <a:ext cx="363240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9:50:08Z</dcterms:created>
  <dc:creator>Pathology</dc:creator>
  <dc:description/>
  <dc:language>en-US</dc:language>
  <cp:lastModifiedBy>Pathology</cp:lastModifiedBy>
  <dcterms:modified xsi:type="dcterms:W3CDTF">2007-09-25T17:31:52Z</dcterms:modified>
  <cp:revision>42</cp:revision>
  <dc:subject/>
  <dc:title>CTO - Clinical Trials/Research in the Ontology of Biomedical Investigation</dc:title>
</cp:coreProperties>
</file>